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280-5D48-45EE-805C-52710B54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9441-5272-4F52-8007-35366592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8145-B8A2-4C17-9CB7-592728FE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37F-310B-4EC8-AE1D-4A271FDA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1A62-4787-4C8B-AA69-14CCE51B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07EE-15C1-4C68-AEB3-9BEE3B6A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E78-55C2-41D8-BF20-509CF2CE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8F9-6718-462B-8DA1-6611900E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C0D-3BBA-41B2-A081-A1B84523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38B-E0A7-46DE-A2EF-E4E29471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91D-4BD0-45F5-811D-9A8E0E53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925-C1CE-49E3-990E-7D5EC144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55DB-B525-4516-A99D-B8DEC891B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4. недељ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330920" y="1996920"/>
            <a:ext cx="662868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АЛИДНОСТ И ЗНАЧАЈНОС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ИЈАГНОСТИЧКОГ ТЕС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је ова дијагностичка студија валидн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је било независ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слепог упоређења 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ЗЛАТНИМ СТАНДАРДОМ дијагноз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је дијагностички тест испитан на одговарајућем спектру пацијена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сличног оном у стварном живот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је златни стандард употребљен независно од резултата дијагностичког тес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Резултати студије о дијагностичком тесту су корисни ако је дијагностички тест примењен на болесницима са благ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али и тешком болешћ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на болесницима у раној и касној фаз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на нелеченим и леченим болесниц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као и на здравим особа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Такођ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корисно је да тест буде примењен и на болесницима са болестима које су сличне оној која се испиту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докази о дијагностичком тесту клинички значај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ијагностички тестови који стварају велику разлику између вероватноће пре и после теста су значај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Сензитивно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проценат болесника код којих је тест позитив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Специфичнос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проценат здравих особа код којих је тест негатив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ајност клиничког те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6990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254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224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љење (хипохромна анем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224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уп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2240">
                      <a:solidFill>
                        <a:srgbClr val="333333"/>
                      </a:solidFill>
                    </a:lnR>
                    <a:lnT w="1224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914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сут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тат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јагности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 т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ритин у серуму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zitivan (&lt;65m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1    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2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224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tivan (&gt;65m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     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224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3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2240">
                      <a:solidFill>
                        <a:srgbClr val="3333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224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224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224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224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ајност клиничког те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нзитивност = а/(а+ц) = 731/809 =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пецифичност = д/(б+д) =1500/1770= 8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ос могућности (ликелихоод ратио) за позитиван исход теста= ОМ+=сенз/(1-спец)=90%/15%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ос могућности (ликелихоод ратио) за негативан исход теста=ОМ-=(1-сенз)/спец=10%/85%=0.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зитивна вредност предвиђања=а/(а+б)=731/1001=7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Негативна вредност предвиђањ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v-SE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500/1578=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валенца=(а+ц)/(а+б+ц+д)=809/2579=3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Однос пре тес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тест одд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преваленц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1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преваленц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31%/69%=0.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днос после теста (пост-тест оддс) =однос пре теста x однос могућ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Вероватноћа после тес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однос после тес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однос после тес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валид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значајни дијагностички тест може да се примени код нашег пацијент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је тест доступ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болесник може да га пл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је тачан и прецизан у нашим услови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можете имати прихватљиву процену вероватноће пре теста за вашег болесн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ваше пракс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личног иску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литерату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з клиничке спекула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ће вероватноћа после теста утицати на лечење вашег болесни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ће утицати на одлуку о врсти третман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ће пацијент прихватити третмане који долазе у обзи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Колико утиче однос могућност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214200" y="2637000"/>
            <a:ext cx="8715240" cy="2295360"/>
            <a:chOff x="214200" y="2637000"/>
            <a:chExt cx="8715240" cy="2295360"/>
          </a:xfrm>
        </p:grpSpPr>
        <p:grpSp>
          <p:nvGrpSpPr>
            <p:cNvPr id="57" name="Group 5"/>
            <p:cNvGrpSpPr/>
            <p:nvPr/>
          </p:nvGrpSpPr>
          <p:grpSpPr>
            <a:xfrm>
              <a:off x="219240" y="2641680"/>
              <a:ext cx="8704080" cy="2286000"/>
              <a:chOff x="219240" y="2641680"/>
              <a:chExt cx="8704080" cy="2286000"/>
            </a:xfrm>
          </p:grpSpPr>
          <p:grpSp>
            <p:nvGrpSpPr>
              <p:cNvPr id="58" name="Group 6"/>
              <p:cNvGrpSpPr/>
              <p:nvPr/>
            </p:nvGrpSpPr>
            <p:grpSpPr>
              <a:xfrm>
                <a:off x="219240" y="2641680"/>
                <a:ext cx="5142960" cy="457200"/>
                <a:chOff x="219240" y="2641680"/>
                <a:chExt cx="5142960" cy="457200"/>
              </a:xfrm>
            </p:grpSpPr>
            <p:sp>
              <p:nvSpPr>
                <p:cNvPr id="59" name="Rectangle 7"/>
                <p:cNvSpPr/>
                <p:nvPr/>
              </p:nvSpPr>
              <p:spPr>
                <a:xfrm>
                  <a:off x="219240" y="26416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већи од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0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ли мањи од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0.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8"/>
                <p:cNvSpPr/>
                <p:nvPr/>
              </p:nvSpPr>
              <p:spPr>
                <a:xfrm>
                  <a:off x="219240" y="26416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Group 9"/>
              <p:cNvGrpSpPr/>
              <p:nvPr/>
            </p:nvGrpSpPr>
            <p:grpSpPr>
              <a:xfrm>
                <a:off x="5362560" y="2641680"/>
                <a:ext cx="3560760" cy="457200"/>
                <a:chOff x="5362560" y="2641680"/>
                <a:chExt cx="3560760" cy="457200"/>
              </a:xfrm>
            </p:grpSpPr>
            <p:sp>
              <p:nvSpPr>
                <p:cNvPr id="62" name="Rectangle 10"/>
                <p:cNvSpPr/>
                <p:nvPr/>
              </p:nvSpPr>
              <p:spPr>
                <a:xfrm>
                  <a:off x="5362560" y="26416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зазива велике промен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1"/>
                <p:cNvSpPr/>
                <p:nvPr/>
              </p:nvSpPr>
              <p:spPr>
                <a:xfrm>
                  <a:off x="5362560" y="26416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Group 12"/>
              <p:cNvGrpSpPr/>
              <p:nvPr/>
            </p:nvGrpSpPr>
            <p:grpSpPr>
              <a:xfrm>
                <a:off x="219240" y="3098880"/>
                <a:ext cx="5142960" cy="457200"/>
                <a:chOff x="219240" y="3098880"/>
                <a:chExt cx="5142960" cy="457200"/>
              </a:xfrm>
            </p:grpSpPr>
            <p:sp>
              <p:nvSpPr>
                <p:cNvPr id="65" name="Rectangle 13"/>
                <p:cNvSpPr/>
                <p:nvPr/>
              </p:nvSpPr>
              <p:spPr>
                <a:xfrm>
                  <a:off x="219240" y="30988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5 - 10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ли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0.1 - 0.2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14"/>
                <p:cNvSpPr/>
                <p:nvPr/>
              </p:nvSpPr>
              <p:spPr>
                <a:xfrm>
                  <a:off x="219240" y="30988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Group 15"/>
              <p:cNvGrpSpPr/>
              <p:nvPr/>
            </p:nvGrpSpPr>
            <p:grpSpPr>
              <a:xfrm>
                <a:off x="5362560" y="3098880"/>
                <a:ext cx="3560760" cy="457200"/>
                <a:chOff x="5362560" y="3098880"/>
                <a:chExt cx="3560760" cy="457200"/>
              </a:xfrm>
            </p:grpSpPr>
            <p:sp>
              <p:nvSpPr>
                <p:cNvPr id="68" name="Rectangle 16"/>
                <p:cNvSpPr/>
                <p:nvPr/>
              </p:nvSpPr>
              <p:spPr>
                <a:xfrm>
                  <a:off x="5362560" y="30988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зазива умерене промен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Rectangle 17"/>
                <p:cNvSpPr/>
                <p:nvPr/>
              </p:nvSpPr>
              <p:spPr>
                <a:xfrm>
                  <a:off x="5362560" y="30988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Group 18"/>
              <p:cNvGrpSpPr/>
              <p:nvPr/>
            </p:nvGrpSpPr>
            <p:grpSpPr>
              <a:xfrm>
                <a:off x="219240" y="3556080"/>
                <a:ext cx="5142960" cy="457200"/>
                <a:chOff x="219240" y="3556080"/>
                <a:chExt cx="5142960" cy="457200"/>
              </a:xfrm>
            </p:grpSpPr>
            <p:sp>
              <p:nvSpPr>
                <p:cNvPr id="71" name="Rectangle 19"/>
                <p:cNvSpPr/>
                <p:nvPr/>
              </p:nvSpPr>
              <p:spPr>
                <a:xfrm>
                  <a:off x="219240" y="35560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2 - 5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ли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0.2 - 0.5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Rectangle 20"/>
                <p:cNvSpPr/>
                <p:nvPr/>
              </p:nvSpPr>
              <p:spPr>
                <a:xfrm>
                  <a:off x="219240" y="35560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Group 21"/>
              <p:cNvGrpSpPr/>
              <p:nvPr/>
            </p:nvGrpSpPr>
            <p:grpSpPr>
              <a:xfrm>
                <a:off x="5362560" y="3556080"/>
                <a:ext cx="3560760" cy="457200"/>
                <a:chOff x="5362560" y="3556080"/>
                <a:chExt cx="3560760" cy="457200"/>
              </a:xfrm>
            </p:grpSpPr>
            <p:sp>
              <p:nvSpPr>
                <p:cNvPr id="74" name="Rectangle 22"/>
                <p:cNvSpPr/>
                <p:nvPr/>
              </p:nvSpPr>
              <p:spPr>
                <a:xfrm>
                  <a:off x="5362560" y="35560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зазива мале промен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Rectangle 23"/>
                <p:cNvSpPr/>
                <p:nvPr/>
              </p:nvSpPr>
              <p:spPr>
                <a:xfrm>
                  <a:off x="5362560" y="35560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Group 24"/>
              <p:cNvGrpSpPr/>
              <p:nvPr/>
            </p:nvGrpSpPr>
            <p:grpSpPr>
              <a:xfrm>
                <a:off x="219240" y="4013280"/>
                <a:ext cx="5142960" cy="457200"/>
                <a:chOff x="219240" y="4013280"/>
                <a:chExt cx="5142960" cy="457200"/>
              </a:xfrm>
            </p:grpSpPr>
            <p:sp>
              <p:nvSpPr>
                <p:cNvPr id="77" name="Rectangle 25"/>
                <p:cNvSpPr/>
                <p:nvPr/>
              </p:nvSpPr>
              <p:spPr>
                <a:xfrm>
                  <a:off x="219240" y="40132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мањи од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 </a:t>
                  </a: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ли већи од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0.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Rectangle 26"/>
                <p:cNvSpPr/>
                <p:nvPr/>
              </p:nvSpPr>
              <p:spPr>
                <a:xfrm>
                  <a:off x="219240" y="40132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Group 27"/>
              <p:cNvGrpSpPr/>
              <p:nvPr/>
            </p:nvGrpSpPr>
            <p:grpSpPr>
              <a:xfrm>
                <a:off x="5362560" y="4013280"/>
                <a:ext cx="3560760" cy="457200"/>
                <a:chOff x="5362560" y="4013280"/>
                <a:chExt cx="3560760" cy="457200"/>
              </a:xfrm>
            </p:grpSpPr>
            <p:sp>
              <p:nvSpPr>
                <p:cNvPr id="80" name="Rectangle 28"/>
                <p:cNvSpPr/>
                <p:nvPr/>
              </p:nvSpPr>
              <p:spPr>
                <a:xfrm>
                  <a:off x="5362560" y="40132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Изазива незнатне пром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Rectangle 29"/>
                <p:cNvSpPr/>
                <p:nvPr/>
              </p:nvSpPr>
              <p:spPr>
                <a:xfrm>
                  <a:off x="5362560" y="40132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Group 30"/>
              <p:cNvGrpSpPr/>
              <p:nvPr/>
            </p:nvGrpSpPr>
            <p:grpSpPr>
              <a:xfrm>
                <a:off x="219240" y="4470480"/>
                <a:ext cx="5142960" cy="457200"/>
                <a:chOff x="219240" y="4470480"/>
                <a:chExt cx="5142960" cy="457200"/>
              </a:xfrm>
            </p:grpSpPr>
            <p:sp>
              <p:nvSpPr>
                <p:cNvPr id="83" name="Rectangle 31"/>
                <p:cNvSpPr/>
                <p:nvPr/>
              </p:nvSpPr>
              <p:spPr>
                <a:xfrm>
                  <a:off x="219240" y="4470480"/>
                  <a:ext cx="5142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Rs = 1.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Rectangle 32"/>
                <p:cNvSpPr/>
                <p:nvPr/>
              </p:nvSpPr>
              <p:spPr>
                <a:xfrm>
                  <a:off x="219240" y="4470480"/>
                  <a:ext cx="51429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Group 33"/>
              <p:cNvGrpSpPr/>
              <p:nvPr/>
            </p:nvGrpSpPr>
            <p:grpSpPr>
              <a:xfrm>
                <a:off x="5362560" y="4470480"/>
                <a:ext cx="3560760" cy="457200"/>
                <a:chOff x="5362560" y="4470480"/>
                <a:chExt cx="3560760" cy="457200"/>
              </a:xfrm>
            </p:grpSpPr>
            <p:sp>
              <p:nvSpPr>
                <p:cNvPr id="86" name="Rectangle 34"/>
                <p:cNvSpPr/>
                <p:nvPr/>
              </p:nvSpPr>
              <p:spPr>
                <a:xfrm>
                  <a:off x="5362560" y="4470480"/>
                  <a:ext cx="35607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CS" sz="2400" spc="-1" strike="noStrike">
                      <a:solidFill>
                        <a:srgbClr val="000000"/>
                      </a:solidFill>
                      <a:latin typeface="Times New Roman"/>
                    </a:rPr>
                    <a:t>Не изазива промен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35"/>
                <p:cNvSpPr/>
                <p:nvPr/>
              </p:nvSpPr>
              <p:spPr>
                <a:xfrm>
                  <a:off x="5362560" y="4470480"/>
                  <a:ext cx="3560760" cy="45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Rectangle 36"/>
            <p:cNvSpPr/>
            <p:nvPr/>
          </p:nvSpPr>
          <p:spPr>
            <a:xfrm>
              <a:off x="214200" y="2637000"/>
              <a:ext cx="8715240" cy="2295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4:38Z</dcterms:modified>
  <cp:revision>57</cp:revision>
  <dc:subject/>
  <dc:title>Slide 1</dc:title>
</cp:coreProperties>
</file>